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knot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größ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1920" y="54936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knotenvergröße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 flipV="1">
            <a:off x="3313080" y="3407400"/>
            <a:ext cx="2699280" cy="6750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013400" y="54936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knotenvergröße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aktio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tzün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ibutä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aktion 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ibutären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0520" y="54936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knotenvergröße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Reaktion auf Entzün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ributären Gebi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om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rombophleb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7" idx="3"/>
            <a:endCxn id="1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143720" y="549360"/>
            <a:ext cx="75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knotenvergröße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ymphade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49360"/>
            <a:ext cx="77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knotenvergröße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it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ystemische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ep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9360"/>
            <a:ext cx="77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knotenvergröße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tzünd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ymphadenitis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pus erythematode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3313080" y="3408120"/>
            <a:ext cx="2689920" cy="6732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961200" y="54936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knotenvergröße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284652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4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837000" y="549360"/>
            <a:ext cx="73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knotenvergröße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Neoplasie &gt; generalisiert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3"/>
            <a:endCxn id="14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836280" y="54936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knotenvergröße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Neoplasie &gt; lokale 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sta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09:33Z</dcterms:modified>
  <cp:revision>335</cp:revision>
  <dc:subject/>
  <dc:title>Vorstellung einer Neuheit</dc:title>
</cp:coreProperties>
</file>